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CEAE59-638C-42BC-8C00-B5CA19C5DF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DDB5C8-D8E7-4532-ADD6-27A966F2F9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3520" y="20574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30481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3505320"/>
            <a:ext cx="811836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4038480"/>
            <a:ext cx="811836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8200" y="4508640"/>
            <a:ext cx="811836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029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8200" y="551016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33520" y="1600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502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1. Identifier la problématique et les objectifs de l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1280" y="2089080"/>
            <a:ext cx="784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2. Préciser les objectifs de l’étude quali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11280" y="3110040"/>
            <a:ext cx="864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4. Dresser la liste des questions à traiter durant les phases d’interaction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597120"/>
            <a:ext cx="7662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5. Rédiger un questionnaire de sélection des participants à l’entretien du 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11280" y="4148280"/>
            <a:ext cx="828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6. Elaborer le guide d’animation et les supports visuels utilisés pour l’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11280" y="4559400"/>
            <a:ext cx="7815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er les interactions clients en fonction du choix méthodologique effect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11280" y="5049720"/>
            <a:ext cx="734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8. Analyser les données enregistrées pendant les interac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611280" y="5556240"/>
            <a:ext cx="82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9. Présenter les conclusions, en tirer des directives et rédiger la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8200" y="25639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11280" y="2612880"/>
            <a:ext cx="806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3. Choisir la méthode et le type d’interactions  à réaliser fonction d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9 étapes clés pour réussi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étude 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20:49Z</dcterms:created>
  <dc:creator>FUAL6625</dc:creator>
  <dc:description/>
  <dc:language>en-US</dc:language>
  <cp:lastModifiedBy>Nathalie Schipounoff</cp:lastModifiedBy>
  <dcterms:modified xsi:type="dcterms:W3CDTF">2014-11-23T16:33:11Z</dcterms:modified>
  <cp:revision>161</cp:revision>
  <dc:subject/>
  <dc:title> PROGRAMME INNOVATION EVERYWHERE  EXPLO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196742</vt:r8>
  </property>
  <property fmtid="{D5CDD505-2E9C-101B-9397-08002B2CF9AE}" pid="3" name="_AuthorEmail">
    <vt:lpwstr>fabienne.auffray@orange-ft.com</vt:lpwstr>
  </property>
  <property fmtid="{D5CDD505-2E9C-101B-9397-08002B2CF9AE}" pid="4" name="_AuthorEmailDisplayName">
    <vt:lpwstr>AUFFRAY Fabienne NSM/TECH</vt:lpwstr>
  </property>
  <property fmtid="{D5CDD505-2E9C-101B-9397-08002B2CF9AE}" pid="5" name="_EmailSubject">
    <vt:lpwstr>matinée explOpen : agenda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